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E28-F7DB-4D50-AA10-A54900B6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874-BB15-421C-BB9D-256A4D8F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560B-1ECF-40F8-A0D5-DF1A27D2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21B-CA4C-4D38-AAAE-14059A48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AE6C-C90D-49C0-A2E0-88E36B06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1F75-348C-48BC-8F7A-ABF42169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1EA3-3831-4105-BF06-C6F48500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8554-8AD0-49B4-B96B-2AEFFB37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9AA0-2C4A-4E8C-83ED-C25CB4E3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28E7-0953-4300-A71B-43BB4445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7062-5E65-422C-8102-02ED7DA7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761-04C8-4F73-B563-7DCC69A4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2E70-7F6F-4596-9645-24A8A14D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DEAB-881F-4A99-95C2-C7FA3257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422E-FC18-4DDE-A029-0C954B12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8E94-DDDA-4FDB-9A17-62104E69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19E7-3F6B-4FEF-8462-EC9D63BF2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21FEA-0660-4D2A-87DB-0858D930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EA0A-0438-40E0-A6CA-DCA6ECAC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66A25-F81B-4CC9-AC1F-B6C0E54C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02EBF-BCAC-4D97-B6A1-44808ED9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256D7-FC7A-4B7F-AAC7-96B69433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B68-7136-43C6-BCFB-91ABC12D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85C19-6CCD-41E2-A3BE-91F99D5D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53B4-D299-4E93-B893-F95CB37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14B5D-1170-4206-B333-1F822E7D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527D0-FD38-49F0-9607-E09B0E26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E9B56-5AB9-4276-877D-162EF82F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C9EA-04DC-4E05-9BAB-70D96A3C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929E-4346-48D9-852C-21BA0E1C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71F91-A4BA-4DA5-A89B-4442009F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57AFE-C69A-4AEA-9236-E742A18E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58C3D-70CC-44F3-8CAA-EAA85CC6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9657-CB0F-4798-88B2-7AC3648C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F260C-C1CC-4B10-8DE7-5C19886C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0A0A9-7F7F-4F09-BD11-9C52168C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93706-A73A-4FF2-A2DF-7CD0B075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56BB7-BB6E-498C-AF8E-EBC15491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1D976-2E69-4407-B9C5-F79FC1CC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0C3F-519E-4737-8B5C-AF5E7BC2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478E4-4921-404D-8DD0-B803C600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66BF2-A2DD-429D-89E5-0B79F365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4FF92-2837-4059-97E0-94EA9B77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370DC-6EAE-4772-84BF-2720C522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2112-30A8-4DB9-AD60-40BCC457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E4BBC-BCA1-4EB1-9CBF-4D4926A7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E30A0-FF09-4656-B6D6-025A7BD8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1D110-0925-4E8F-A6F2-5DE8A943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E00B3-1FF3-4BD9-96D3-94BDC14D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F9761-FDAF-486B-8AC9-9F735566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08038-8320-45DB-9BAB-892ED9FB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8240-8E70-47E5-926B-C8C5F83E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52424-0CD8-474B-A0D4-6FD84736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5B9E-AAF5-4BE8-9460-F57659A7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E6239-E6A1-417D-AF7C-12CBE8C1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4B4-57A6-4B77-A011-85A0BDDA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A0298-FB39-40C8-8161-B581BE6B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CB193-94B4-4A34-8980-55617301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C0259-31E4-4028-B7F2-304A80EE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DD943-8164-45D0-945D-5B228F03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3B3EB-E637-4CDF-A22F-ED260DE6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A4986-83D5-465A-9DDA-ACDF1907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E40E0-7DAB-42DB-9E64-4C4A4974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86685-2DA2-4CFC-A36D-2D30F38E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AF35-4A0F-4F36-BD52-F16FC17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B56FD-12A7-4D0B-A7D9-13B0BAF7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C25-B160-42D1-AEE9-E631A829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2F7E1-5DB5-45B6-AFBE-B596FC45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4057D-40D2-46D3-8B46-2692BF98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9885-AF07-4508-B7D6-6A306F4A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48C99-D5C5-40A9-B5AF-47C31D7B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CD29A-6FA8-49F3-9DE2-2AD7CD4A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60214-22AD-4AD9-AB58-658D6EBC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F6F6B-B6EE-4306-BB2B-D5C56D39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7915B-6C04-4550-8174-0604833E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11C23-4ABB-4948-8172-4894B9CF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DF0E8-707E-4F5B-82E0-C7DF1864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B6B-7BE0-438A-B8C7-CCB337CD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9C2EC-30CC-43D9-9C8D-35A75255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B1D20-6985-4C3B-8CEE-8F88A4F8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C8CEE-4C86-4125-9CBD-630126B4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79E26-184C-49DC-A67E-E73733F4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13DFC-41DD-4EAA-B00B-46FD4508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86420-EDF5-4F8A-9E25-5A65A63B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59156-AD91-455B-93CA-F65AB304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CF04E-89A6-46A1-8EAF-0E89E065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FE327-A32F-460B-ABC2-8963383A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8F364-99AD-4DD3-BDF9-97536DAB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FE3-05B9-4064-ACEF-B3339F32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0DA98-AA2C-4217-B6E3-D8AD95A3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BD2BF-2747-4AFB-9244-121EA3C9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211C6-A06F-4F90-966C-7F3C3F4B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2EB5B-4985-4926-A12D-05BF2B9C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D5427-B79E-4D6B-BED0-1F706FFD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89047-523B-4982-907E-8070C258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D2F1E-3643-4309-89B7-A3F50886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C911-4D00-4452-AAAA-A6D08C20141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8E70-5EBC-4174-8A30-2E47C3A366B0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3817-7EFE-4264-8276-4007E105707D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E4D8-048D-48C0-A4C5-04F5DB07624F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D530-4D95-4AA9-8A92-70651759D72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429F-C8A9-422B-9E33-CDD01EB3FBC6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E1F4-591B-4754-8FF4-1B33AA76787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C1C1-5F27-45DE-898A-0622939CF70B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981000"/>
            <a:ext cx="821232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Informe de Ca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Proyecto T-06-10.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ipo de levant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ipsoide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WGS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taciones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OLE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143080"/>
          <a:ext cx="7786800" cy="182880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1785960"/>
                <a:gridCol w="3214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á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,5 – 2,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ínimo 6 ho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formaciones geológicas, control geodésico, geofísica, grandes líneas de refer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XV_Expedición_Antártica\fotos\Ivan\IVAN SALTOS\25-ENE-2011\P1010368.JPG"/>
          <p:cNvPicPr/>
          <p:nvPr/>
        </p:nvPicPr>
        <p:blipFill>
          <a:blip r:embed="rId2"/>
          <a:stretch/>
        </p:blipFill>
        <p:spPr>
          <a:xfrm>
            <a:off x="1320840" y="1916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XV_Expedición_Antártica\fotos\Ivan\IVAN SALTOS\25-ENE-2011\P1010371.JPG"/>
          <p:cNvPicPr/>
          <p:nvPr/>
        </p:nvPicPr>
        <p:blipFill>
          <a:blip r:embed="rId2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XV_Expedición_Antártica\fotos\Ivan\IVAN SALTOS\25-ENE-2011\P1010356.JPG"/>
          <p:cNvPicPr/>
          <p:nvPr/>
        </p:nvPicPr>
        <p:blipFill>
          <a:blip r:embed="rId2"/>
          <a:stretch/>
        </p:blipFill>
        <p:spPr>
          <a:xfrm>
            <a:off x="1643040" y="1231920"/>
            <a:ext cx="56912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1: de 17 a 23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2: de 20 a 25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1285920" y="3357720"/>
          <a:ext cx="6643800" cy="165564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820880"/>
                <a:gridCol w="15004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ÚMERO DE MED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JOR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TOTAL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CT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2:10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:4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rocesamiento de datos recopilados en campaña de medició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dacción de resultados y conclusiones en base a datos procesad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mpaña de medición en XVI  Expedició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e mejora el estado de los clavos de la red no permanente de G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se de datos de coordenadas de estaciones BM01 y BM0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ejorar la protección de los clavos con material impermeabl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dentificar las Baterías utilizadas en la Estación Maldona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OC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rmada del Ecuad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sonal de logística y científicos de XV Expedición Ecuatoriana a la Antártic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1:14:57Z</dcterms:created>
  <dc:creator>Richard Serrano</dc:creator>
  <dc:description/>
  <dc:language>en-US</dc:language>
  <cp:lastModifiedBy>Richard Serrano</cp:lastModifiedBy>
  <dcterms:modified xsi:type="dcterms:W3CDTF">2011-01-26T19:30:23Z</dcterms:modified>
  <cp:revision>6</cp:revision>
  <dc:subject/>
  <dc:title>XV EXPEDICIÓN ECUATORIANA A LA ANTÁRTICA</dc:title>
</cp:coreProperties>
</file>